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3F34-81B3-4F9C-B0ED-36AC75D140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4162-3012-403C-8E6C-E94FC27E43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C1C51-556D-41D4-ABCB-2C9866D639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E080F-306F-4163-901A-39C5ADEE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39712-F256-4600-9CD5-0E9DA56C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8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3652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8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3652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B8B55-417A-4E04-B16A-3AD936C124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89F77-61D5-4B2B-9A97-D955AECEB9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10DF8-1D51-499D-8297-77E4E90D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41449-3B78-4BF2-9C9A-07C9BC27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50869-9746-4469-9C96-79103417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50595-70E4-4C2B-9F03-B83DC67E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37782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FB445-D873-4DB4-BDB3-618F15CA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8C808-97C7-432A-B2C3-5A39860C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26487-9344-4FC2-A089-0B6CEC97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C8B2B-84F2-495A-B3C9-504C0B31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030CD-6958-486F-97D8-2FCCEEFD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02458-E7C6-439D-ACFC-B9808FEC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556A1-B868-4A28-ACC5-5D76D546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08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3652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08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3652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C50C2-6CEE-468E-B3BB-36D7587044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C152E-7F13-4073-BF46-8F66FE56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7225A-0079-4CD8-9206-2E589508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5B413-1708-4694-8079-40FCC43E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37782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D1918-E4B8-4DF5-974C-A5283C44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FF9A3-7B70-4F0F-B31A-2DB1620F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7E124-7F4A-4FE1-931F-B7EB9F4D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6B7FC-04B4-43B1-939F-776C65CC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5943600"/>
            <a:ext cx="1676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52920" y="5943600"/>
            <a:ext cx="838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A9A4-1353-4F74-B3EF-6A07C8FA1B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304920" y="5943600"/>
            <a:ext cx="1676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8152920" y="5943600"/>
            <a:ext cx="838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DA64-4028-458E-A5FD-A341B94793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0" t="0" r="18374" b="0"/>
          <a:stretch/>
        </p:blipFill>
        <p:spPr>
          <a:xfrm>
            <a:off x="214200" y="704880"/>
            <a:ext cx="8929800" cy="61531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 rot="16200000">
            <a:off x="95040" y="680400"/>
            <a:ext cx="5605560" cy="579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217440" y="5516640"/>
            <a:ext cx="1069920" cy="741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179280" y="1717560"/>
            <a:ext cx="727416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"/>
              </a:rPr>
              <a:t>Financial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Month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aire Wil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ef Finance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016/17 – year end posi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16000" y="1844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iginal financial target for yea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£927k)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nus’ Sustainability funding received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509k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w financial targ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£418k)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"/>
          <p:cNvSpPr/>
          <p:nvPr/>
        </p:nvSpPr>
        <p:spPr>
          <a:xfrm>
            <a:off x="6545160" y="2637000"/>
            <a:ext cx="15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5-Point Star 5"/>
          <p:cNvSpPr/>
          <p:nvPr/>
        </p:nvSpPr>
        <p:spPr>
          <a:xfrm>
            <a:off x="7956720" y="3500280"/>
            <a:ext cx="287280" cy="231840"/>
          </a:xfrm>
          <a:custGeom>
            <a:avLst/>
            <a:gdLst/>
            <a:ahLst/>
            <a:rect l="l" t="t" r="r" b="b"/>
            <a:pathLst>
              <a:path w="288032" h="231867">
                <a:moveTo>
                  <a:pt x="0" y="88565"/>
                </a:moveTo>
                <a:lnTo>
                  <a:pt x="110019" y="88566"/>
                </a:lnTo>
                <a:lnTo>
                  <a:pt x="144016" y="0"/>
                </a:lnTo>
                <a:lnTo>
                  <a:pt x="178013" y="88566"/>
                </a:lnTo>
                <a:lnTo>
                  <a:pt x="288032" y="88565"/>
                </a:lnTo>
                <a:lnTo>
                  <a:pt x="199024" y="143301"/>
                </a:lnTo>
                <a:lnTo>
                  <a:pt x="233023" y="231866"/>
                </a:lnTo>
                <a:lnTo>
                  <a:pt x="144016" y="177129"/>
                </a:lnTo>
                <a:lnTo>
                  <a:pt x="55009" y="231866"/>
                </a:lnTo>
                <a:lnTo>
                  <a:pt x="89008" y="143301"/>
                </a:lnTo>
                <a:lnTo>
                  <a:pt x="0" y="8856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71748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016/17 continued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26920" y="1267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ancial positi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1,183k surp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chnical adjustments ‘added back’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(1,575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ancial position against targe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(392k)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 we hit our targ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5-Point Star 5"/>
          <p:cNvSpPr/>
          <p:nvPr/>
        </p:nvSpPr>
        <p:spPr>
          <a:xfrm>
            <a:off x="6770520" y="3435480"/>
            <a:ext cx="346320" cy="314280"/>
          </a:xfrm>
          <a:custGeom>
            <a:avLst/>
            <a:gdLst/>
            <a:ahLst/>
            <a:rect l="l" t="t" r="r" b="b"/>
            <a:pathLst>
              <a:path w="344812" h="313349">
                <a:moveTo>
                  <a:pt x="0" y="119688"/>
                </a:moveTo>
                <a:lnTo>
                  <a:pt x="131707" y="119689"/>
                </a:lnTo>
                <a:lnTo>
                  <a:pt x="172406" y="0"/>
                </a:lnTo>
                <a:lnTo>
                  <a:pt x="213105" y="119689"/>
                </a:lnTo>
                <a:lnTo>
                  <a:pt x="344812" y="119688"/>
                </a:lnTo>
                <a:lnTo>
                  <a:pt x="238258" y="193660"/>
                </a:lnTo>
                <a:lnTo>
                  <a:pt x="278959" y="313348"/>
                </a:lnTo>
                <a:lnTo>
                  <a:pt x="172406" y="239376"/>
                </a:lnTo>
                <a:lnTo>
                  <a:pt x="65853" y="313348"/>
                </a:lnTo>
                <a:lnTo>
                  <a:pt x="106554" y="193660"/>
                </a:lnTo>
                <a:lnTo>
                  <a:pt x="0" y="11968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95280" y="2462040"/>
            <a:ext cx="493560" cy="493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4356000" y="4581360"/>
            <a:ext cx="17416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016/17 – year end posi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1415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ol Total Target m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gency costs £1.59m compared to £2.2m cei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st Improvement Programme - £2.5m saved against £3.7m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spend £5.9m spend in line with Trusts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647640" cy="773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311040" y="2347920"/>
            <a:ext cx="647640" cy="773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355680" y="4653000"/>
            <a:ext cx="647640" cy="77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255600" y="371628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 Louise</dc:creator>
  <dc:description/>
  <dc:language>en-US</dc:language>
  <cp:lastModifiedBy>Wilson Claire (RBQ)</cp:lastModifiedBy>
  <cp:lastPrinted>2014-02-19T14:11:01Z</cp:lastPrinted>
  <dcterms:modified xsi:type="dcterms:W3CDTF">2017-05-31T17:36:27Z</dcterms:modified>
  <cp:revision>264</cp:revision>
  <dc:subject/>
  <dc:title>Chief Executive’s  Team Brief or longer heading</dc:title>
</cp:coreProperties>
</file>